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6D3-42B5-4496-BCDD-13C1767A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31A-E10E-40E6-873B-8A62C80B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04B-3F76-4AE8-AA3E-B2E44CA8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4E1-D7A6-4051-94D5-2E69635D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5313-5425-4F05-B162-A44195CD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C933-4262-4826-9E86-6F28BFE9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CCDB-1CEA-4279-9F28-4F8D83C3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638F-9918-42A4-A29B-A35EAC5D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9361-1DCB-4570-A4FC-9F850887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D058-78A9-46A9-BE8F-3A21A712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FF14-A6FF-4C31-A298-4B317FFA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9F3-30FD-40C3-9FEF-7754EA08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F2C2-C2DD-4031-A521-8B94668D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BCDF-32BF-41F5-A6D1-3B983F81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E6D4-6522-43E1-AC7C-0BF4FA22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D4ED-7441-485D-8D30-FF91CFB2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6F13-35EA-4226-B1B5-616DD890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B5A-4ECC-47DA-B5E4-4A620A67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93B-3407-4BE5-8A66-62061C3D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DF4-4911-4185-A36C-60E298C3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2CE-EB18-4266-9F6A-EF882A07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89D-45A8-49BD-B5BD-4CF6CC4D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39E-B539-44C6-8131-CDC3419F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216-B9FD-4FCC-9332-EFCB0D66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601E-6398-4F0D-9E30-2CCB79A88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E0A7-80DF-4696-8CD3-3C562AE40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ff00"/>
                </a:solidFill>
                <a:latin typeface="Times New Roman"/>
              </a:rPr>
              <a:t>Тақырып 4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413000"/>
            <a:ext cx="8540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ffff"/>
                </a:solidFill>
                <a:latin typeface="Times New Roman"/>
              </a:rPr>
              <a:t>Мемлекеттік метрологиялық қызметтің ұйымдастырушылық негіздері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ама бірліктерінің мемлекеттік эталондарын жасау, жетілдіру, сақтау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мен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қолдануд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және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шама бірліктерінің мөлшерлерін беру жүйелерін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уды қамтамасыз ететін, сондай-ақ өлшем бірлігін қамтамасыз ету жөніндегі нормативтік қүжаттард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ірле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ін мемлекеттік ғылыми метрологиялық орталықтар;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628640"/>
            <a:ext cx="87854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шем бірлігін қамтамасыз ету мәселелеріме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емлекеттік метрологиялық қызметпен қатар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келесі ұйымдар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йналыс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д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ақыт пен жиілік мемлекеттік қызметі (УЖМҚ);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Өлшем бірлігін қамтамасыз ететін басқа да ұйымд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ттар мен материалдардың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рам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мен қасиеттерінің стандарттық үлгілеріңің мемлекеттік қызметі (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Ү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Қ); 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ттар мен материалдардың физикалық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қты шамалар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қасиеттері туралы стандарттық ан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ма деректерінің мемлекеттік қызметі (САДМҚ).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қызметтердің іс-әрекетіне ҚР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техникалық реттеу және метрология жөніндегі комитеті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басшылық етеді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ақыт пен жиіліктің мемлекеттік қызметі аймақаралық және салааралық үйлестіруді жүзеге асырад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жән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уақыт пен жиіліктің өлшем бірлігін қамтамасыз е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еді.</a:t>
            </a: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ттар мен материалдардың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мы мен қасиеттерінің стандарттық үлгілерінің мемлекеттік қызметі аймақаралық және салааралық үйлестіруді жүзеге асырады, заттар мен материалдардың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мы мен қасиеттерінің стандарттық үлгілері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ірлеуге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ендіруге байланысты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тардың орындалуын қамтамасыз етеді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ттар мен материалдардың физик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қты шамалары ме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сиеттері туралы стандартт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анықтама деректердің мемлекеттік қызметі айм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алың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салааралық үйлестіруді жүзеге асырады, заттар мен материалдардың физикалық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қты шамалары мен қасиеттері туралы стандарттық анықтама деректерді әзірлеу және өндіруге байланысты жүмыстардың орындалуын қамтамасыз етеді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млекеттік басқару органдары, жеке және заңды 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галар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жет болған жағдайларда өлшем бірлігін қамтамасыз ету жөніндегі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тарды орындау, сондай-ақ метрологиялық бақылауды жүзеге асыру үшін метрологиялық қызметтер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 алад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млекеттік бас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ру органдарының, жеке және заңды т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ғалардың метрологиялық қызметтерінің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ы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техникалық реттеу және метрология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өніндегі уәкілетті мемлекеттік органмен келіскен нормативтік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ттарға сәйкес жүзеге асырылад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заматтардың өмірі мен денсалығын қорғауды қамтамасыз ету жөніндегі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тар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німнің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көрсетілген қызметтер сапасының нормативтік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аттардың міндетті талаптарына сәйкестігін сынау мен бақылау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қоршаған ортаның жай-күйін бақылау, еңбек жағдайларының қауіпсіздігін бақылау;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трология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қызметті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 мына аумақта міндетті болып табылады: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атып алушы мен сатушы арасындағы, соның ішінде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мыст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және коммуналд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 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зметтер көрсету мен байланыс қызметтерін көрсету салаларындағы сауда-коммерция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ық операциялар мен есеп айырысулар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млекеттік есеп операциялары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дардағы,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малардағы, жартылай фабрикаттардағы, дәнекерлемелер мен қалдықтардағы бағалы металдардың мөлшерін анықтауға байланысты операциялар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24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Мақсаты: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Студенттерді мемлекеттік метрология-лық қызметтің ұйымдастырушылық негіздерімен таныстыру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781360"/>
            <a:ext cx="29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Жоспар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3645000"/>
            <a:ext cx="8756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1. ММҚ міндеттері және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2. Өлшем бірлігін қамтамасыз ететін басқа да ұйымдар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қару-жарақ, әскери және арнайы техника, арнайы өнімнің басқа да түрлерін өндіру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еодезия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жө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гидрометрологиялық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үмыстар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алық, банк, к- ден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пошта операциялары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атериалдық ресурстардың барлық түрлерін шығару, өндіру,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тау, тасымалдау, сақтау жөне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ну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ылыс салу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млекеттік ба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у органдарының тапсырмасы бойынша орындалатын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тар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ттық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х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ңаралық спорт рекордтарын тіркеу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салыстырып тексеру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азақстанның мемлекеттік метрологиялық қызметі (ММҚ) мемлекеттік метрологиялық органдардың жиынтығынан тұрады және өлшем бірлігін қамтамасыз ету бойынша қызметті басқару үшін құрылады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ММҚ жалпы басшылығын ҚР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техникалық реттеу және метрология жөніндегі комитеті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жүзеге асырад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ММҚ міндеттері және құрам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бірлігін қамтамасыз ету бойынша қызметті аймақаралық және салааралық үйлестір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қолдануға жіберілетін шама бірліктері бойынша ҚР Үкіметін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ыныстар жаса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ама бірліктерінің эталондарын жасау, бекіту, сақтау жөне пайдалану ережелерін белгіле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а, әдістеріне жене нәтижелеріне ортақ метрологиялық талаптарды анықтау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ған мынадай міндеттер жүктелген</a:t>
            </a:r>
            <a:r>
              <a:rPr b="1" lang="ru-RU" sz="4000" spc="-1" strike="noStrike">
                <a:solidFill>
                  <a:srgbClr val="b7e7ff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млекеттік метрологиялық қадағала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сынау жөне салыстырып тексеру нәтижелерін мойындау туралы халықаралық келісімшарттардың ҚР-да сақталуын қадағала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бірлігін қамтамасыз ету 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қтары бойынша халықаралық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дардың қызметіне қатыс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бірлігін қамтамасыз ету бойынша нормативтік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аттарды бекіту;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млекеттік эталондарды бекіт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салыстырып тексеруаралық интервалдарды белгіле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ехникалық құрылғыларды 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а жатқызу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дерді орындау әдістемесін жасау жөне аттестаттау тәртібін орнат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сынаудың мемлекеттік орталықтарын аккредиттеу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түрін бекіту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ң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мемлекеттік реестрін жүргіз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ңды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ғалардың метрологиялық қызметтерін 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салыстырып тексеру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қыгына аккредитте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алыстырып тексеруге жататын 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ың тізімін бекіт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ңды және жеке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ғалардың 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әзірлеу, жөндеу, сату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 жалға беру бойынша іс-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екеттерін лицензиялау тәртібін орнату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бірлігін қамтамасыз ету бойынша мемлекеттік инспекторлардың іс-әрекеттері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дастыру жөне үйлестір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ңды түлғалардың метрологиялық қызметтерінің іс-әрекеті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дастыру және калибрлеу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тарын жүргізу қүқығына аккредитте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трологиялық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тарды жоспарлау және орындалуы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йымдастыру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1) техникалық реттеу және метрология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жөніндегі уәкілетті мемлекеттік орган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2) техникалық реттеу және метрология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жөніндегі уәкілетті мемлекеттік органның тиісті аумақта өздері туралы ережелермен белгіленген шекті өлшем бірлігін қамтамасыз ету жөніндегі міндеттер мен функцияларды орындайтын ведомстволық бағыныстағы бөлімшелер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89000"/>
            <a:ext cx="8785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млекеттік метрологиялық қызмет құрамына мыналар кіреді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0:16:47Z</dcterms:created>
  <dc:creator>Мади</dc:creator>
  <dc:description/>
  <dc:language>en-US</dc:language>
  <cp:lastModifiedBy>User</cp:lastModifiedBy>
  <dcterms:modified xsi:type="dcterms:W3CDTF">2012-05-29T04:01:27Z</dcterms:modified>
  <cp:revision>9</cp:revision>
  <dc:subject/>
  <dc:title>Таќырыбы:</dc:title>
</cp:coreProperties>
</file>